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9BB-6AE6-42B7-BC36-F9FF3ECA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C38-E05D-42E9-8EF0-A1A5397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BE4-D5C2-426E-B130-487837C4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5F8-2653-4B05-9B0B-23D5150B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057-4D28-4FD3-BA29-57F380EE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031-FAD4-434E-961A-C506BFB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6F7-2737-4098-8AD4-A6D70224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08E-3666-4A3E-B339-19F8CBE9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D41-32AC-4193-AA26-9C004F4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DE3D-C558-4671-9771-2D33A98C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4152-D5A2-494E-90AB-7CAE1D7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6EB-F7F1-44FD-812F-CD85C961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FA1F-CCA8-408A-93A1-CF9EC96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F367-46B0-415A-A405-F9D0EB5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D7A0-853F-4320-A6A3-7869DD27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DF0-B0F3-4FD0-91D8-373B8DC1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A242-F9FA-418E-9A7C-63E76333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8C2D-8B80-4356-AB7F-529EF1DA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8EAB-F6B0-48DD-ADF8-1B9DCFD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D973-867B-4EA1-A3E7-31D928C2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0B60-6CEB-46A4-BF65-070B5C7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DF82-4775-40C8-B0E0-4D822901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19B-E41C-4FFD-93C5-7AC4A7B7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7534-1E98-4DA5-A3EA-B607B3BD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BAA6-CAD2-4919-AD30-30A6036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7D8D-6C37-41D1-A020-D8CFA49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61C1-AE55-45FA-B161-9CCA220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B618-9EB2-430E-90B4-7D08F7D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5D2C-9D65-4459-9E51-3BA7D6EC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1D54-33A9-47E8-8CD7-5888FB92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102C4-0100-42B0-9AB3-C60530E1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BDC6-3480-434F-8FAC-CB7CF24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BDC4-F51F-470D-88FC-4626FC4A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78F-FB60-4140-A019-664A075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508A-4617-4F82-A28C-371810C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2304-6469-475B-A596-2A64D8CC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174F-3E38-4FC5-8915-6283EE2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5E43-127C-4C1F-9564-0C5BE54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6F96-139D-4C98-B2AC-C6D133D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7754-25AB-4DE1-91C0-157C70B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6D386-B3AE-4D96-924F-AABB85B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A8AE-3F58-4C0B-A168-1D63522F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99042-51E9-43B7-B919-84D3309D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9AAE-641C-449E-A170-1DAC962A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40B-2011-4303-B152-EEF740F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8DE4-1BA9-47B6-8429-B4FF58C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C190E-0617-4BA4-8ECA-897B9D1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48C8-93D8-48E6-B428-D7497B34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59AB-DC1D-4E61-A9B0-10B0180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E307-9EA2-40C4-8C86-1ACDA2B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500D-07FC-43EC-BB03-E8CD020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BAB7-A0E4-439D-9516-2307893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BC1A-8A8A-4491-B02D-5D94A4C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CEBA-25B7-4AF1-9023-5AF3B6F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75A2-26F1-4C5A-A6E2-816F2544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BCE-0381-4F82-B7BF-980FD3F8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3488-4FE7-4C2A-B795-C4C7059F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6701-6759-4EC6-950E-47A8A62D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5C30-1399-41D3-BBFE-FE6A84F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E8C6-CFDF-4BA9-A221-EF3919F2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1211-FE45-47AD-BAC5-617016A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4FA2-2C3C-427A-A807-585DFC1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7626-56F8-4CFE-AD14-3645684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0DF5-5F60-4B21-A343-5A256AA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7378C-5C87-45DD-9B86-73B4B8F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0DFF9-6065-490C-8E95-146AF83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A87-610C-4449-9333-0AA8474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A195-1477-4111-93E5-DC193D0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D370-8ACA-408A-9D33-4C931BCA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402D-BCD7-4826-A640-D75F5A9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40606-96D9-4BD5-9279-6EC5FA55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C2A20-2E4B-42C9-8756-7181A4D2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C1F15-DBC5-4C19-958E-994CBF9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F9FE-23EB-4F4A-8B16-A0018DB3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0555-6A54-47C4-A7F1-FB0C3DD9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2B9A-5D4F-4DFF-93CE-72DDD2D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16B57-E406-4148-97A7-A6EAF3E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476-786B-44EE-B761-FDA6194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DB79-8724-4C1B-9401-CAB172D2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7261-3CFC-4C72-8AD2-7F3404AF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DC47F-9AED-47FD-AA73-F1A3A07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200C-C524-48A3-BC61-A891E176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6821-A9CE-4233-BDA6-421F663A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7D8-62E7-4B24-94E8-3A52E91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C95A-12D6-4EA1-B4A9-3F71F1BEEB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B557-F39C-4BEA-A4FB-F014C1747D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D84-AFB9-4EB4-9B85-31889DDE19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F5CD-CF08-4459-BB16-624B961E3F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DC4-B1AA-47B9-9E13-1B18D8D36F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3491-B81C-4C69-9CCE-1EBF6D8E7A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B9F6-315A-4282-BDED-69FF7955BD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07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асный мусор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чел.png"/>
          <p:cNvPicPr/>
          <p:nvPr/>
        </p:nvPicPr>
        <p:blipFill>
          <a:blip r:embed="rId1"/>
          <a:stretch/>
        </p:blipFill>
        <p:spPr>
          <a:xfrm>
            <a:off x="1042920" y="1700280"/>
            <a:ext cx="7881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" descr="планета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2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00080" y="3252960"/>
            <a:ext cx="814392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имер с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0 г.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Санкт-Петербурге действует система регулярного сбора опасных отходов, образующихся в быту, с помощью мобильных пунктов приема – «Экомобилей». Мобильный пункт приема представляет собой автомобиль, оснащенный специальными контейнерами для сбора и транспортировки опасных отх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2286000" y="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рошая новость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3357720" y="114300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явилась возможность утилизации отработанных батареек и аккумулятор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600" y="1447560"/>
            <a:ext cx="7494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бокс»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мобил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экомобиль.jpg"/>
          <p:cNvPicPr/>
          <p:nvPr/>
        </p:nvPicPr>
        <p:blipFill>
          <a:blip r:embed="rId1"/>
          <a:stretch/>
        </p:blipFill>
        <p:spPr>
          <a:xfrm>
            <a:off x="4067280" y="2133720"/>
            <a:ext cx="4902120" cy="4319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" descr="экомобокс.jpg"/>
          <p:cNvPicPr/>
          <p:nvPr/>
        </p:nvPicPr>
        <p:blipFill>
          <a:blip r:embed="rId2"/>
          <a:srcRect l="8176" t="3566" r="6124" b="6122"/>
          <a:stretch/>
        </p:blipFill>
        <p:spPr>
          <a:xfrm>
            <a:off x="539640" y="2060640"/>
            <a:ext cx="331164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 можете сдать отработанные батарейки и аккумуляторы 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14240" y="214200"/>
            <a:ext cx="842976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агодаря работе «Экомобилей» было собрано и утилизировано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1 348 шт.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содержащих ламп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 745 шт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медицинских термометров и прочих ртутных приборов. Собрано и селективно переработано око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-ти тонн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техники и бытовых прибо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 полигоны твердых бытовых отходов НЕ попа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,5 тонны лекарственных препаратов и химических отходов и 79 048 шт. батаре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рогие ребята! </a:t>
            </a:r>
            <a:br>
              <a:rPr sz="3900"/>
            </a:b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вайте вместе сделаем наш город чище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15640" y="1773000"/>
            <a:ext cx="777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давайте использованные батарейки и аккумулято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жите своим друзьям, соседям и родителям о вреде этого опасного мус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172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тарейка – это источник энергии для автономного питания разнообразных устройст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Рисунок 3" descr="вертолет.jpg"/>
          <p:cNvPicPr/>
          <p:nvPr/>
        </p:nvPicPr>
        <p:blipFill>
          <a:blip r:embed="rId1"/>
          <a:stretch/>
        </p:blipFill>
        <p:spPr>
          <a:xfrm rot="1024200">
            <a:off x="5602320" y="3315960"/>
            <a:ext cx="3147840" cy="31478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тел.jpg"/>
          <p:cNvPicPr/>
          <p:nvPr/>
        </p:nvPicPr>
        <p:blipFill>
          <a:blip r:embed="rId2"/>
          <a:stretch/>
        </p:blipFill>
        <p:spPr>
          <a:xfrm>
            <a:off x="755640" y="4581360"/>
            <a:ext cx="2941560" cy="21225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фотик.jpg"/>
          <p:cNvPicPr/>
          <p:nvPr/>
        </p:nvPicPr>
        <p:blipFill>
          <a:blip r:embed="rId3"/>
          <a:stretch/>
        </p:blipFill>
        <p:spPr>
          <a:xfrm rot="21048000">
            <a:off x="3002040" y="2252160"/>
            <a:ext cx="2571840" cy="2181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6" descr="часы.jpg"/>
          <p:cNvPicPr/>
          <p:nvPr/>
        </p:nvPicPr>
        <p:blipFill>
          <a:blip r:embed="rId4"/>
          <a:stretch/>
        </p:blipFill>
        <p:spPr>
          <a:xfrm>
            <a:off x="324000" y="765000"/>
            <a:ext cx="1795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же устрое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батарейка.jpg"/>
          <p:cNvPicPr/>
          <p:nvPr/>
        </p:nvPicPr>
        <p:blipFill>
          <a:blip r:embed="rId1"/>
          <a:stretch/>
        </p:blipFill>
        <p:spPr>
          <a:xfrm>
            <a:off x="1116000" y="907920"/>
            <a:ext cx="8028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4" descr="пал.jpg"/>
          <p:cNvPicPr/>
          <p:nvPr/>
        </p:nvPicPr>
        <p:blipFill>
          <a:blip r:embed="rId1"/>
          <a:stretch/>
        </p:blipFill>
        <p:spPr>
          <a:xfrm>
            <a:off x="3419640" y="4437000"/>
            <a:ext cx="4297320" cy="2421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ие бывают батарейк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Самые маленькие «таблетк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«Пальчики», на них написано «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» – это официальное их наз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аблетки.jpg"/>
          <p:cNvPicPr/>
          <p:nvPr/>
        </p:nvPicPr>
        <p:blipFill>
          <a:blip r:embed="rId2"/>
          <a:stretch/>
        </p:blipFill>
        <p:spPr>
          <a:xfrm>
            <a:off x="1692360" y="1557360"/>
            <a:ext cx="3208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4" descr="бочки.jpg"/>
          <p:cNvPicPr/>
          <p:nvPr/>
        </p:nvPicPr>
        <p:blipFill>
          <a:blip r:embed="rId1"/>
          <a:stretch/>
        </p:blipFill>
        <p:spPr>
          <a:xfrm>
            <a:off x="5940360" y="2852640"/>
            <a:ext cx="3476520" cy="3476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971640" y="260280"/>
            <a:ext cx="691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«Мизинчики» - официальное название «А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«Бочки» и «бочонки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» – они побольш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ли «С» – эти поменьш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миз.jpg"/>
          <p:cNvPicPr/>
          <p:nvPr/>
        </p:nvPicPr>
        <p:blipFill>
          <a:blip r:embed="rId2"/>
          <a:stretch/>
        </p:blipFill>
        <p:spPr>
          <a:xfrm>
            <a:off x="1258920" y="134136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-360"/>
            <a:ext cx="77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е эти батарейки по типу использования бывают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оразовы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нельзя перезаряжать на них написано «Алкалайновая батарейка»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кумуляторные батарейки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можно заряжать в специальном устройст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ругие батарейки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специальные «свои» аккумуляторы в телефонах, видеокамерах, ноутбуках, некоторых фотоаппаратах – могут перезаряжаться в самом устройстве, когда оно подключается к электрической сети. Бывают батарейки типа «Крона» имеющие два круглых контакта и напряжение в 9 вольт 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внимание.jpg"/>
          <p:cNvPicPr/>
          <p:nvPr/>
        </p:nvPicPr>
        <p:blipFill>
          <a:blip r:embed="rId1"/>
          <a:stretch/>
        </p:blipFill>
        <p:spPr>
          <a:xfrm>
            <a:off x="324000" y="3068640"/>
            <a:ext cx="5864040" cy="34560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батарейках содержится множество различных металлов — ртуть, никель, кадмий, свинец, литий, марганец и цинк, которые имеют свойство накапливаться в живых организмах, в том числе и в организме человека, и наносить существенный вред здоровью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6286680" y="3068640"/>
            <a:ext cx="267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нак изображенный на батарейке означает: 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Не выбрасывать, необходимо сдать в специальный пункт утил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ы тяжелые металлы, находящиеся в батарейках?</a:t>
            </a: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4280" y="1714320"/>
            <a:ext cx="771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винец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основном в почках. Вызывает также заболевания мозга, нервные расстройства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дмий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печени, почках, костях и щитовидной железе. Является канцерогеном, то есть провоцирует рак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Влияет на мозг, нервную систему, почки и печень. Вызывает нервные расстройства, ухудшение зрения, слуха, нарушения двигательного аппарата, заболевания дыхательной системы. Наиболее уязвимы дети. Независимо от путей поступления в организм ртуть накапливается в почках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3" descr="3.bmp"/>
          <p:cNvPicPr/>
          <p:nvPr/>
        </p:nvPicPr>
        <p:blipFill>
          <a:blip r:embed="rId1"/>
          <a:stretch/>
        </p:blipFill>
        <p:spPr>
          <a:xfrm>
            <a:off x="5003640" y="836640"/>
            <a:ext cx="3857760" cy="585792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Ежики.jpg"/>
          <p:cNvPicPr/>
          <p:nvPr/>
        </p:nvPicPr>
        <p:blipFill>
          <a:blip r:embed="rId2"/>
          <a:stretch/>
        </p:blipFill>
        <p:spPr>
          <a:xfrm>
            <a:off x="0" y="-227160"/>
            <a:ext cx="4714920" cy="70851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-1717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ред батареек для окружающей сред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9995</dc:creator>
  <dc:description/>
  <dc:language>en-US</dc:language>
  <cp:lastModifiedBy>79995678691</cp:lastModifiedBy>
  <dcterms:modified xsi:type="dcterms:W3CDTF">2020-12-27T08:43:37Z</dcterms:modified>
  <cp:revision>14</cp:revision>
  <dc:subject/>
  <dc:title>Слайд 1</dc:title>
</cp:coreProperties>
</file>